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F5B9-A2D1-4441-A716-11D37E806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4D0E-B852-42D2-87A7-C37F0176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9DDA-12FB-4E08-933D-E20819F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FA81-28B8-415A-BC67-4FBB9C5F1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88B09-EDC8-4F58-A37D-DE819DE426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D2D81-A91F-4689-A088-8A88387F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F30CD-4BED-46B2-8B4D-6323121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6984C-C620-45A4-A9DC-362A93F2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04258-3805-4CE8-B449-2B39DA39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005E0-7C5C-4312-9CDE-673DBD71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080C7-16C8-4F22-AFAB-645EF49B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334D-2CF3-4369-B45F-81BA647C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58279-8FCA-4B49-A0B4-1301DEF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9F38-9880-4CD1-948B-1740D62F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079CD-2A88-4ABD-8F8B-719F236B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C7EB3-AE1E-4FA8-85D6-80B1260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18790-E6CF-429E-A600-93BC05DCC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9356-F7A8-4E09-B075-C605F8BE2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A16-89B6-4B34-81DD-D8AEFCB8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FA4B-783C-441A-8E06-01A3D648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BCC9-A17C-412C-A547-09C1B283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4B16-D3CD-4C78-9B73-D99273EB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0CAB-8117-4301-9831-D399D577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96BE-C858-4153-908D-4614AC55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A903-7242-4EDE-B033-F00AC62E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70A-9E96-4FAA-9248-9623444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094D-3E62-4A6A-8336-3CAEF0CF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0189-A028-435E-9CB7-7F88A9D1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C193-5E8F-4ED0-9AC7-9B8D0B78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1DE3-C572-4875-919E-8B9F10F82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715AF-3540-4F5A-AD3C-3B07844518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1982F-EC8C-4F1B-98C4-C1D53BAC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4BA04-F8FA-4480-8466-69291947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A81A-1BD5-4A6B-955F-5047150E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55E51-D5AA-4E29-B16C-B21AFDD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32D3D-BEB3-4467-9E0A-72049B9B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0BE81-BDE4-4BFE-9A52-3DB2D5D9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3D2E8-B6A7-420A-B79A-4CAED35C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87D35-A895-4102-8784-57A14B0E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182CF-CCF3-436B-8D93-1A49978E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D0A88-12BA-4F33-9ABC-EECC8B77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985C3-A079-44BD-9683-67191CC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46B9F-B161-4FE4-A847-3EB88BB02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293D2-5ECF-4E4E-A83B-70C592342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7C63-21BB-4D25-BBFB-5D2CB75F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5B6681-D9A5-4FE2-8B5B-150C6EFC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5835C-C849-4C22-8BC3-8E37AF6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C2D78-068C-42F1-9BE5-A8D94E6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1A70E-109A-4FF8-AB07-E481C0A6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229F9-E5C4-474A-860D-5CCA2880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89B00-0A3D-45B9-AEF0-2991BBF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D5037-BF82-4D96-916E-35EB7C5C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BC47A-EEA8-4E39-A872-8305B930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20934-B4E8-482F-9BD2-F15C62B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EAF01F-D755-4506-81E9-967BC0B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67FD-46F0-4072-8EC5-E14A14F0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F24FD-EBD5-4E01-8525-25F30464A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BAD1-7CD4-487D-8596-0456E91AD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8845-64BC-4B00-9BD8-FBDAFE8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785B-75EF-46A3-905F-CC071921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B537-E9C6-480B-A03F-6788DAE3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84C2-5B2A-461B-93E0-CC0CD0E1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99F2-6B5B-4AAF-AA7A-233C4A16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A47D-7579-46DB-85D7-CFB5EA1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C001-4F0F-4ECC-B6A0-4CEB472D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EB89E-DDFA-4904-B44B-FBAF7A5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F308-E163-43CB-BC8F-E25BAB67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06C5E-12E9-4122-B26A-E516074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EBFD-E80E-4062-A557-8464CB7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EF1EF-0F44-4D30-A8FB-F9169462C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ED84D-F146-4294-A7A4-841737470D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44171-8381-4573-A9DA-FFC8FC5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45129-79B2-4C12-9FCD-1C32452F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5B474-DE8C-4C83-B48C-4EB5332C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A8CA2-EF86-4915-83F3-219E41A8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9A832-C436-4ADC-8676-2A32AF93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952F2-4154-46C9-8E6D-EF9D4F1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BC92-C6F5-4E0B-973E-402976F4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5677D-B3CF-4E9C-8B30-F7CA18C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BD111-B3EA-4BBC-AE80-A7271A42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40F6C-E57D-4A26-95CA-6E306AD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B2579-0ED5-4F6A-A2E9-5DB6A0B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5C925-DF81-4EE2-84A8-7F7268B62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93A7-76F4-4A45-A31A-F82BC89C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440"/>
            <a:ext cx="21319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F57584-B2C2-424C-B127-114CDC8A18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371600" y="6011640"/>
            <a:ext cx="57895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8A390A-F9A0-492F-956F-861A551DA428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91240" y="6480000"/>
            <a:ext cx="21319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B623C9-7075-429B-9C48-589F6D1F2B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228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258BAA-4E9D-4CAE-A916-8F4252269F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9"/>
          </p:nvPr>
        </p:nvSpPr>
        <p:spPr>
          <a:xfrm>
            <a:off x="4790880" y="6481440"/>
            <a:ext cx="21286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CFAD5E-2B97-4B49-BDCC-F61FA12095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6278040" y="6556320"/>
            <a:ext cx="21322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F06C33-14ED-428F-BCE2-F061186C3DF1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02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2E396D-8643-451F-B21B-1EFE23E27DDF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tatic.photaki.com/inyeccion-detalle-aguja_151968.jpg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530280" y="414360"/>
            <a:ext cx="8197920" cy="4089240"/>
            <a:chOff x="530280" y="414360"/>
            <a:chExt cx="8197920" cy="4089240"/>
          </a:xfrm>
        </p:grpSpPr>
        <p:pic>
          <p:nvPicPr>
            <p:cNvPr id="302" name="Picture 2" descr=""/>
            <p:cNvPicPr/>
            <p:nvPr/>
          </p:nvPicPr>
          <p:blipFill>
            <a:blip r:embed="rId1"/>
            <a:stretch/>
          </p:blipFill>
          <p:spPr>
            <a:xfrm>
              <a:off x="530280" y="414360"/>
              <a:ext cx="8197920" cy="40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3"/>
            <p:cNvSpPr/>
            <p:nvPr/>
          </p:nvSpPr>
          <p:spPr>
            <a:xfrm>
              <a:off x="530280" y="414360"/>
              <a:ext cx="8197920" cy="40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04" name="Group 4"/>
          <p:cNvGrpSpPr/>
          <p:nvPr/>
        </p:nvGrpSpPr>
        <p:grpSpPr>
          <a:xfrm>
            <a:off x="603360" y="4992840"/>
            <a:ext cx="8088120" cy="1582560"/>
            <a:chOff x="603360" y="4992840"/>
            <a:chExt cx="8088120" cy="1582560"/>
          </a:xfrm>
        </p:grpSpPr>
        <p:pic>
          <p:nvPicPr>
            <p:cNvPr id="305" name="Picture 5" descr=""/>
            <p:cNvPicPr/>
            <p:nvPr/>
          </p:nvPicPr>
          <p:blipFill>
            <a:blip r:embed="rId2"/>
            <a:stretch/>
          </p:blipFill>
          <p:spPr>
            <a:xfrm>
              <a:off x="603360" y="4992840"/>
              <a:ext cx="808812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6"/>
            <p:cNvSpPr/>
            <p:nvPr/>
          </p:nvSpPr>
          <p:spPr>
            <a:xfrm>
              <a:off x="603360" y="4992840"/>
              <a:ext cx="808812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"/>
          <p:cNvGrpSpPr/>
          <p:nvPr/>
        </p:nvGrpSpPr>
        <p:grpSpPr>
          <a:xfrm>
            <a:off x="195120" y="262080"/>
            <a:ext cx="8496360" cy="1406520"/>
            <a:chOff x="195120" y="262080"/>
            <a:chExt cx="8496360" cy="1406520"/>
          </a:xfrm>
        </p:grpSpPr>
        <p:pic>
          <p:nvPicPr>
            <p:cNvPr id="351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63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3"/>
            <p:cNvSpPr/>
            <p:nvPr/>
          </p:nvSpPr>
          <p:spPr>
            <a:xfrm>
              <a:off x="195120" y="262080"/>
              <a:ext cx="84963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53" name="Text Box 4"/>
          <p:cNvSpPr/>
          <p:nvPr/>
        </p:nvSpPr>
        <p:spPr>
          <a:xfrm>
            <a:off x="428760" y="1714680"/>
            <a:ext cx="43574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675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URGENCIA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Demora desde que acude a primera dosis antibiótico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Uso de Carbapenen de primera línea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Desarrollo resistencias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Necesidad de administración IV Ingreso 10 días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Permanencia en sala de espera general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No posibilidad de seguimiento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Ingreso hospitalario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46040" indent="-382680">
              <a:lnSpc>
                <a:spcPts val="2585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46040" indent="-382680">
              <a:lnSpc>
                <a:spcPts val="2585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862520" y="1714680"/>
            <a:ext cx="42814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675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HOSPITAL DE DÍA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Administración inmediata de Antibiótico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Uso de Quinolonas de primera línea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e reservan Carbapenen para sepsis graves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Administración oral en domicilio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Permanencia desde la llegada en zona tratamiento monitorizado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Posibilidad de seguimiento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lnSpc>
                <a:spcPts val="2585"/>
              </a:lnSpc>
              <a:spcBef>
                <a:spcPts val="374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Tratamiento domiciliario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4857840" y="235728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349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857840" y="3024360"/>
            <a:ext cx="357120" cy="21564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00349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AutoShape 8"/>
          <p:cNvSpPr/>
          <p:nvPr/>
        </p:nvSpPr>
        <p:spPr>
          <a:xfrm flipV="1">
            <a:off x="4859280" y="4858560"/>
            <a:ext cx="355680" cy="212760"/>
          </a:xfrm>
          <a:prstGeom prst="rightArrow">
            <a:avLst>
              <a:gd name="adj1" fmla="val 50000"/>
              <a:gd name="adj2" fmla="val 19829"/>
            </a:avLst>
          </a:prstGeom>
          <a:solidFill>
            <a:srgbClr val="00349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AutoShape 9"/>
          <p:cNvSpPr/>
          <p:nvPr/>
        </p:nvSpPr>
        <p:spPr>
          <a:xfrm flipV="1">
            <a:off x="4857840" y="5500080"/>
            <a:ext cx="357120" cy="215640"/>
          </a:xfrm>
          <a:prstGeom prst="rightArrow">
            <a:avLst>
              <a:gd name="adj1" fmla="val 50000"/>
              <a:gd name="adj2" fmla="val 19942"/>
            </a:avLst>
          </a:prstGeom>
          <a:solidFill>
            <a:srgbClr val="00349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AutoShape 10"/>
          <p:cNvSpPr/>
          <p:nvPr/>
        </p:nvSpPr>
        <p:spPr>
          <a:xfrm flipV="1">
            <a:off x="4857840" y="5929200"/>
            <a:ext cx="357120" cy="216000"/>
          </a:xfrm>
          <a:prstGeom prst="rightArrow">
            <a:avLst>
              <a:gd name="adj1" fmla="val 50000"/>
              <a:gd name="adj2" fmla="val 19909"/>
            </a:avLst>
          </a:prstGeom>
          <a:solidFill>
            <a:srgbClr val="00349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61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63" name="Text Box 4"/>
          <p:cNvSpPr/>
          <p:nvPr/>
        </p:nvSpPr>
        <p:spPr>
          <a:xfrm>
            <a:off x="609480" y="1500120"/>
            <a:ext cx="85345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ts val="5085"/>
              </a:lnSpc>
              <a:spcBef>
                <a:spcPts val="575"/>
              </a:spcBef>
              <a:buClr>
                <a:srgbClr val="ff388c"/>
              </a:buClr>
              <a:buFont typeface="Wingdings" charset="2"/>
              <a:buChar char=""/>
              <a:tabLst>
                <a:tab algn="l" pos="824040"/>
                <a:tab algn="l" pos="1738440"/>
                <a:tab algn="l" pos="2652840"/>
                <a:tab algn="l" pos="3567240"/>
                <a:tab algn="l" pos="4481640"/>
                <a:tab algn="l" pos="5396040"/>
                <a:tab algn="l" pos="6310440"/>
                <a:tab algn="l" pos="7224840"/>
                <a:tab algn="l" pos="8139240"/>
                <a:tab algn="l" pos="9053640"/>
                <a:tab algn="l" pos="996804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entury Gothic"/>
              </a:rPr>
              <a:t>El conocimiento y el personal especializad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5085"/>
              </a:lnSpc>
              <a:spcBef>
                <a:spcPts val="575"/>
              </a:spcBef>
              <a:buClr>
                <a:srgbClr val="ff388c"/>
              </a:buClr>
              <a:buFont typeface="Wingdings" charset="2"/>
              <a:buChar char=""/>
              <a:tabLst>
                <a:tab algn="l" pos="824040"/>
                <a:tab algn="l" pos="1738440"/>
                <a:tab algn="l" pos="2652840"/>
                <a:tab algn="l" pos="3567240"/>
                <a:tab algn="l" pos="4481640"/>
                <a:tab algn="l" pos="5396040"/>
                <a:tab algn="l" pos="6310440"/>
                <a:tab algn="l" pos="7224840"/>
                <a:tab algn="l" pos="8139240"/>
                <a:tab algn="l" pos="9053640"/>
                <a:tab algn="l" pos="996804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entury Gothic"/>
              </a:rPr>
              <a:t>La protocolización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5085"/>
              </a:lnSpc>
              <a:spcBef>
                <a:spcPts val="575"/>
              </a:spcBef>
              <a:buClr>
                <a:srgbClr val="ff388c"/>
              </a:buClr>
              <a:buFont typeface="Wingdings" charset="2"/>
              <a:buChar char=""/>
              <a:tabLst>
                <a:tab algn="l" pos="824040"/>
                <a:tab algn="l" pos="1738440"/>
                <a:tab algn="l" pos="2652840"/>
                <a:tab algn="l" pos="3567240"/>
                <a:tab algn="l" pos="4481640"/>
                <a:tab algn="l" pos="5396040"/>
                <a:tab algn="l" pos="6310440"/>
                <a:tab algn="l" pos="7224840"/>
                <a:tab algn="l" pos="8139240"/>
                <a:tab algn="l" pos="9053640"/>
                <a:tab algn="l" pos="996804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entury Gothic"/>
              </a:rPr>
              <a:t>El adecuado manejo de efectos adversos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5085"/>
              </a:lnSpc>
              <a:spcBef>
                <a:spcPts val="575"/>
              </a:spcBef>
              <a:tabLst>
                <a:tab algn="l" pos="0"/>
                <a:tab algn="l" pos="824040"/>
                <a:tab algn="l" pos="1738440"/>
                <a:tab algn="l" pos="2652840"/>
                <a:tab algn="l" pos="3567240"/>
                <a:tab algn="l" pos="4481640"/>
                <a:tab algn="l" pos="5396040"/>
                <a:tab algn="l" pos="6310440"/>
                <a:tab algn="l" pos="7224840"/>
                <a:tab algn="l" pos="8139240"/>
                <a:tab algn="l" pos="9053640"/>
                <a:tab algn="l" pos="996804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5085"/>
              </a:lnSpc>
              <a:spcBef>
                <a:spcPts val="575"/>
              </a:spcBef>
              <a:tabLst>
                <a:tab algn="l" pos="0"/>
                <a:tab algn="l" pos="824040"/>
                <a:tab algn="l" pos="1738440"/>
                <a:tab algn="l" pos="2652840"/>
                <a:tab algn="l" pos="3567240"/>
                <a:tab algn="l" pos="4481640"/>
                <a:tab algn="l" pos="5396040"/>
                <a:tab algn="l" pos="6310440"/>
                <a:tab algn="l" pos="7224840"/>
                <a:tab algn="l" pos="8139240"/>
                <a:tab algn="l" pos="9053640"/>
                <a:tab algn="l" pos="996804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5085"/>
              </a:lnSpc>
              <a:spcBef>
                <a:spcPts val="575"/>
              </a:spcBef>
              <a:tabLst>
                <a:tab algn="l" pos="0"/>
                <a:tab algn="l" pos="824040"/>
                <a:tab algn="l" pos="1738440"/>
                <a:tab algn="l" pos="2652840"/>
                <a:tab algn="l" pos="3567240"/>
                <a:tab algn="l" pos="4481640"/>
                <a:tab algn="l" pos="5396040"/>
                <a:tab algn="l" pos="6310440"/>
                <a:tab algn="l" pos="7224840"/>
                <a:tab algn="l" pos="8139240"/>
                <a:tab algn="l" pos="9053640"/>
                <a:tab algn="l" pos="996804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5085"/>
              </a:lnSpc>
              <a:spcBef>
                <a:spcPts val="575"/>
              </a:spcBef>
              <a:tabLst>
                <a:tab algn="l" pos="0"/>
                <a:tab algn="l" pos="824040"/>
                <a:tab algn="l" pos="1738440"/>
                <a:tab algn="l" pos="2652840"/>
                <a:tab algn="l" pos="3567240"/>
                <a:tab algn="l" pos="4481640"/>
                <a:tab algn="l" pos="5396040"/>
                <a:tab algn="l" pos="6310440"/>
                <a:tab algn="l" pos="7224840"/>
                <a:tab algn="l" pos="8139240"/>
                <a:tab algn="l" pos="9053640"/>
                <a:tab algn="l" pos="996804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2812320" y="385776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orbel"/>
              </a:rPr>
              <a:t>REPERCUTE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500040" y="4786200"/>
            <a:ext cx="8529840" cy="17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4385"/>
              </a:lnSpc>
              <a:buClr>
                <a:srgbClr val="ff388c"/>
              </a:buClr>
              <a:buFont typeface="Wingdings 2" charset="2"/>
              <a:buChar char=""/>
              <a:tabLst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INCREMENTO DE LA CALIDAD ASISTENCIA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4385"/>
              </a:lnSpc>
              <a:buClr>
                <a:srgbClr val="ff388c"/>
              </a:buClr>
              <a:buFont typeface="Wingdings 2" charset="2"/>
              <a:buChar char=""/>
              <a:tabLst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AUMENTO DE LA CALIDAD DE VI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8920" indent="-358920">
              <a:lnSpc>
                <a:spcPts val="4385"/>
              </a:lnSpc>
              <a:buClr>
                <a:srgbClr val="ff388c"/>
              </a:buClr>
              <a:buFont typeface="Wingdings 2" charset="2"/>
              <a:buChar char=""/>
              <a:tabLst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DISMINUCIÓN DEL GASTO DE RECURSO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"/>
          <p:cNvGrpSpPr/>
          <p:nvPr/>
        </p:nvGrpSpPr>
        <p:grpSpPr>
          <a:xfrm>
            <a:off x="176040" y="755640"/>
            <a:ext cx="3894480" cy="1650960"/>
            <a:chOff x="176040" y="755640"/>
            <a:chExt cx="3894480" cy="1650960"/>
          </a:xfrm>
        </p:grpSpPr>
        <p:pic>
          <p:nvPicPr>
            <p:cNvPr id="367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755640"/>
              <a:ext cx="389448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3"/>
            <p:cNvSpPr/>
            <p:nvPr/>
          </p:nvSpPr>
          <p:spPr>
            <a:xfrm>
              <a:off x="176040" y="755640"/>
              <a:ext cx="389448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4122720" y="642960"/>
            <a:ext cx="4164120" cy="58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0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10" name="Text Box 4"/>
          <p:cNvSpPr/>
          <p:nvPr/>
        </p:nvSpPr>
        <p:spPr>
          <a:xfrm>
            <a:off x="533520" y="1585800"/>
            <a:ext cx="82296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En nuestro centro desde 2009 el tratamiento de SMD es AZACITIDIN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46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  </a:t>
            </a:r>
            <a:r>
              <a:rPr b="1" i="1" lang="es-ES" sz="2800" spc="-1" strike="noStrike">
                <a:solidFill>
                  <a:srgbClr val="0044c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33520" y="4265640"/>
            <a:ext cx="800100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358920">
              <a:buClr>
                <a:srgbClr val="ff388c"/>
              </a:buClr>
              <a:buFont typeface="Wingdings" charset="2"/>
              <a:buChar char=""/>
              <a:tabLst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rbel"/>
              </a:rPr>
              <a:t>El adecuado manejo de los efectos adversos logra que aumente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e40059"/>
              </a:buClr>
              <a:buFont typeface="Wingdings" charset="2"/>
              <a:buChar char=""/>
              <a:tabLst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  <a:ea typeface="Lucida Sans Unicode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  <a:ea typeface="Lucida Sans Unicode"/>
              </a:rPr>
              <a:t>Las respuest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e40059"/>
              </a:buClr>
              <a:buFont typeface="Wingdings" charset="2"/>
              <a:buChar char=""/>
              <a:tabLst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  <a:ea typeface="Lucida Sans Unicode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  <a:ea typeface="Lucida Sans Unicode"/>
              </a:rPr>
              <a:t>La supervivenc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533520" y="3211560"/>
            <a:ext cx="8072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6680" indent="-319320">
              <a:buClr>
                <a:srgbClr val="ff388c"/>
              </a:buClr>
              <a:buFont typeface="Wingdings" charset="2"/>
              <a:buChar char=""/>
              <a:tabLst>
                <a:tab algn="l" pos="436680"/>
                <a:tab algn="l" pos="1351080"/>
                <a:tab algn="l" pos="2265480"/>
                <a:tab algn="l" pos="3179880"/>
                <a:tab algn="l" pos="4094280"/>
                <a:tab algn="l" pos="5008680"/>
                <a:tab algn="l" pos="5923080"/>
                <a:tab algn="l" pos="6837480"/>
                <a:tab algn="l" pos="7751880"/>
                <a:tab algn="l" pos="8666280"/>
                <a:tab algn="l" pos="9580680"/>
                <a:tab algn="l" pos="10495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rbel"/>
              </a:rPr>
              <a:t>Un fármaco de administración subcutáne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14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16" name="Text Box 4"/>
          <p:cNvSpPr/>
          <p:nvPr/>
        </p:nvSpPr>
        <p:spPr>
          <a:xfrm>
            <a:off x="428760" y="1571760"/>
            <a:ext cx="822960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6680" indent="-31932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 2" charset="2"/>
              <a:buChar char="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rimero: se protocolizo la administració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14280" indent="-27144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Información al pacien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214280" indent="-27144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Modo de administració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214280" indent="-27144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Optimización del tiempo y los recurso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6680" indent="-31932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 2" charset="2"/>
              <a:buChar char="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n un segundo paso los efectos adverso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14280" indent="-27144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Reacciones loca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214280" indent="-27144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Gastrointestinal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6680" indent="-31932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 2" charset="2"/>
              <a:buChar char="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Finalmen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14280" indent="-271440">
              <a:lnSpc>
                <a:spcPct val="9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índrome febri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5572080" y="4500720"/>
            <a:ext cx="25002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19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1" name="Text Box 4"/>
          <p:cNvSpPr/>
          <p:nvPr/>
        </p:nvSpPr>
        <p:spPr>
          <a:xfrm>
            <a:off x="304920" y="2071800"/>
            <a:ext cx="61243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Evaluar la protocolización  y manejo del Síndrome Febril en pacientes con SMD tratados con Azacitidina  en el Hospital de Día Onco-hematologico del H. Virgen de la Victoria de Málaga desde noviembre 200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6858000" y="2666880"/>
            <a:ext cx="20667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24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6" name="Text Box 4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studio observacional retrospectiv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46040" indent="-38268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 revisan las Historias clínicas para ver la evolución de los pacientes c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índrome Mielodisplásico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Tratamiento con Azacitidin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índrome febri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46040" indent="-382680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nalizamos si eran atendidos en urgencias o en nuestra unid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2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30" name="Text Box 4"/>
          <p:cNvSpPr/>
          <p:nvPr/>
        </p:nvSpPr>
        <p:spPr>
          <a:xfrm>
            <a:off x="457200" y="1903320"/>
            <a:ext cx="82296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Desde 2009, 70 pacientes con SMD de alto riesgo o LMA han sido tratados en nuestro centro con Azacitidi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>
            <a:off x="6858000" y="3143160"/>
            <a:ext cx="1647720" cy="28576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457200" y="4286160"/>
            <a:ext cx="6572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6680" indent="-319320">
              <a:buClr>
                <a:srgbClr val="ff388c"/>
              </a:buClr>
              <a:buFont typeface="Wingdings" charset="2"/>
              <a:buChar char=""/>
              <a:tabLst>
                <a:tab algn="l" pos="436680"/>
                <a:tab algn="l" pos="1351080"/>
                <a:tab algn="l" pos="2265480"/>
                <a:tab algn="l" pos="3179880"/>
                <a:tab algn="l" pos="4094280"/>
                <a:tab algn="l" pos="5008680"/>
                <a:tab algn="l" pos="5923080"/>
                <a:tab algn="l" pos="6837480"/>
                <a:tab algn="l" pos="7751880"/>
                <a:tab algn="l" pos="8666280"/>
                <a:tab algn="l" pos="9580680"/>
                <a:tab algn="l" pos="10495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rbel"/>
              </a:rPr>
              <a:t>Todos los pacientes han presentado uno o varios episodios febriles durante el tratamiento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6680" indent="-319320">
              <a:lnSpc>
                <a:spcPct val="100000"/>
              </a:lnSpc>
              <a:tabLst>
                <a:tab algn="l" pos="0"/>
                <a:tab algn="l" pos="436680"/>
                <a:tab algn="l" pos="1351080"/>
                <a:tab algn="l" pos="2265480"/>
                <a:tab algn="l" pos="3179880"/>
                <a:tab algn="l" pos="4094280"/>
                <a:tab algn="l" pos="5008680"/>
                <a:tab algn="l" pos="5923080"/>
                <a:tab algn="l" pos="6837480"/>
                <a:tab algn="l" pos="7751880"/>
                <a:tab algn="l" pos="8666280"/>
                <a:tab algn="l" pos="9580680"/>
                <a:tab algn="l" pos="10495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6680" indent="-319320">
              <a:lnSpc>
                <a:spcPct val="100000"/>
              </a:lnSpc>
              <a:tabLst>
                <a:tab algn="l" pos="0"/>
                <a:tab algn="l" pos="436680"/>
                <a:tab algn="l" pos="1351080"/>
                <a:tab algn="l" pos="2265480"/>
                <a:tab algn="l" pos="3179880"/>
                <a:tab algn="l" pos="4094280"/>
                <a:tab algn="l" pos="5008680"/>
                <a:tab algn="l" pos="5923080"/>
                <a:tab algn="l" pos="6837480"/>
                <a:tab algn="l" pos="7751880"/>
                <a:tab algn="l" pos="8666280"/>
                <a:tab algn="l" pos="9580680"/>
                <a:tab algn="l" pos="10495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6680" indent="-319320">
              <a:lnSpc>
                <a:spcPct val="100000"/>
              </a:lnSpc>
              <a:tabLst>
                <a:tab algn="l" pos="0"/>
                <a:tab algn="l" pos="436680"/>
                <a:tab algn="l" pos="1351080"/>
                <a:tab algn="l" pos="2265480"/>
                <a:tab algn="l" pos="3179880"/>
                <a:tab algn="l" pos="4094280"/>
                <a:tab algn="l" pos="5008680"/>
                <a:tab algn="l" pos="5923080"/>
                <a:tab algn="l" pos="6837480"/>
                <a:tab algn="l" pos="7751880"/>
                <a:tab algn="l" pos="8666280"/>
                <a:tab algn="l" pos="9580680"/>
                <a:tab algn="l" pos="10495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34" name="Group 2"/>
          <p:cNvGrpSpPr/>
          <p:nvPr/>
        </p:nvGrpSpPr>
        <p:grpSpPr>
          <a:xfrm>
            <a:off x="928800" y="614520"/>
            <a:ext cx="7356240" cy="5784840"/>
            <a:chOff x="928800" y="614520"/>
            <a:chExt cx="7356240" cy="5784840"/>
          </a:xfrm>
        </p:grpSpPr>
        <p:pic>
          <p:nvPicPr>
            <p:cNvPr id="335" name="Picture 3" descr=""/>
            <p:cNvPicPr/>
            <p:nvPr/>
          </p:nvPicPr>
          <p:blipFill>
            <a:blip r:embed="rId1"/>
            <a:stretch/>
          </p:blipFill>
          <p:spPr>
            <a:xfrm>
              <a:off x="928800" y="614520"/>
              <a:ext cx="7356240" cy="57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4"/>
            <p:cNvSpPr/>
            <p:nvPr/>
          </p:nvSpPr>
          <p:spPr>
            <a:xfrm>
              <a:off x="928800" y="614520"/>
              <a:ext cx="735624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"/>
          <p:cNvGrpSpPr/>
          <p:nvPr/>
        </p:nvGrpSpPr>
        <p:grpSpPr>
          <a:xfrm>
            <a:off x="195120" y="262080"/>
            <a:ext cx="8496360" cy="1406520"/>
            <a:chOff x="195120" y="262080"/>
            <a:chExt cx="8496360" cy="1406520"/>
          </a:xfrm>
        </p:grpSpPr>
        <p:pic>
          <p:nvPicPr>
            <p:cNvPr id="33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63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3"/>
            <p:cNvSpPr/>
            <p:nvPr/>
          </p:nvSpPr>
          <p:spPr>
            <a:xfrm>
              <a:off x="195120" y="262080"/>
              <a:ext cx="84963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40" name="Text Box 4"/>
          <p:cNvSpPr/>
          <p:nvPr/>
        </p:nvSpPr>
        <p:spPr>
          <a:xfrm>
            <a:off x="214200" y="1773360"/>
            <a:ext cx="42814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URGENCI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Lunes-Viernes  tarde/noch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Fines de seman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in historia clínic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in personal especializad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in conocimiento de la patología  ni del tratamient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648320" y="1773360"/>
            <a:ext cx="42814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OSPITAL DE DÍ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Lunes-Viernes mañan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Con historia clínic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Con personal especializad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Conocimiento de la patología y del tratamient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Protocolo de actuación establecid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286080" y="521496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"/>
          <p:cNvGrpSpPr/>
          <p:nvPr/>
        </p:nvGrpSpPr>
        <p:grpSpPr>
          <a:xfrm>
            <a:off x="179280" y="210960"/>
            <a:ext cx="8496360" cy="1406880"/>
            <a:chOff x="179280" y="210960"/>
            <a:chExt cx="8496360" cy="1406880"/>
          </a:xfrm>
        </p:grpSpPr>
        <p:pic>
          <p:nvPicPr>
            <p:cNvPr id="344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210960"/>
              <a:ext cx="8496360" cy="14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3"/>
            <p:cNvSpPr/>
            <p:nvPr/>
          </p:nvSpPr>
          <p:spPr>
            <a:xfrm>
              <a:off x="179280" y="210960"/>
              <a:ext cx="8496360" cy="14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46" name="Text Box 4"/>
          <p:cNvSpPr/>
          <p:nvPr/>
        </p:nvSpPr>
        <p:spPr>
          <a:xfrm>
            <a:off x="71280" y="1571760"/>
            <a:ext cx="428652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6680" indent="-319320">
              <a:lnSpc>
                <a:spcPct val="90000"/>
              </a:lnSpc>
              <a:buClr>
                <a:srgbClr val="ff388c"/>
              </a:buClr>
              <a:buFont typeface="Wingdings 2" charset="2"/>
              <a:buChar char="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URGENCIA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Atendido por 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enfermera de triaje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Valorado en policlínica por </a:t>
            </a: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residente</a:t>
            </a: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 que solicita exploracione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Comentado en observación al tener las exploracione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e avisa al Hematólogo localizado tras administrar primera dosis antibioterapia IV amplio espectr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Normalmente ante la dificultad de seguimiento y la necesidad de tomar decisiones, se ingresa al paciente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36680" indent="-319320">
              <a:lnSpc>
                <a:spcPct val="90000"/>
              </a:lnSpc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429080" y="1557360"/>
            <a:ext cx="475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6680" indent="-319320">
              <a:lnSpc>
                <a:spcPct val="90000"/>
              </a:lnSpc>
              <a:buClr>
                <a:srgbClr val="ff388c"/>
              </a:buClr>
              <a:buFont typeface="Wingdings 2" charset="2"/>
              <a:buChar char="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HOSPITAL DE DI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28640" indent="-27144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Valorado en </a:t>
            </a:r>
            <a:r>
              <a:rPr b="1" lang="es-ES" sz="19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consulta de enfermería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lnSpc>
                <a:spcPct val="90000"/>
              </a:lnSpc>
              <a:spcBef>
                <a:spcPts val="400"/>
              </a:spcBef>
              <a:buClr>
                <a:srgbClr val="ff19d3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e dispone de historia clínica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lnSpc>
                <a:spcPct val="90000"/>
              </a:lnSpc>
              <a:spcBef>
                <a:spcPts val="400"/>
              </a:spcBef>
              <a:buClr>
                <a:srgbClr val="ff15d2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e extrae analítica con hemocultivos y procalcitonina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lnSpc>
                <a:spcPct val="90000"/>
              </a:lnSpc>
              <a:spcBef>
                <a:spcPts val="400"/>
              </a:spcBef>
              <a:buClr>
                <a:srgbClr val="fa00ca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e valoran constantes, se administra primera dosis antibiótica y antitérmico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lnSpc>
                <a:spcPct val="90000"/>
              </a:lnSpc>
              <a:spcBef>
                <a:spcPts val="400"/>
              </a:spcBef>
              <a:buClr>
                <a:srgbClr val="ff25d5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e remite a RX tórax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lnSpc>
                <a:spcPct val="90000"/>
              </a:lnSpc>
              <a:spcBef>
                <a:spcPts val="400"/>
              </a:spcBef>
              <a:buClr>
                <a:srgbClr val="ff11d2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e pasa a cama en zona de tratamiento donde es valorado por Hematólog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lnSpc>
                <a:spcPct val="90000"/>
              </a:lnSpc>
              <a:spcBef>
                <a:spcPts val="400"/>
              </a:spcBef>
              <a:buClr>
                <a:srgbClr val="ff1dd4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  <a:ea typeface="Lucida Sans Unicode"/>
              </a:rPr>
              <a:t>Si permanece estable hasta las 20:00 h. se remite a domicilio con antibioterapia VO pendiente de valorar cultivos  y evolución en 48 hora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300680" y="600084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rbel"/>
              </a:rPr>
              <a:t>INGRESO 80%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725080" y="600084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rbel"/>
              </a:rPr>
              <a:t>INGRESO 40%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9:33:06Z</dcterms:created>
  <dc:creator>WinuE</dc:creator>
  <dc:description/>
  <dc:language>en-US</dc:language>
  <cp:lastModifiedBy>Usuario</cp:lastModifiedBy>
  <cp:lastPrinted>2012-10-15T06:30:06Z</cp:lastPrinted>
  <dcterms:modified xsi:type="dcterms:W3CDTF">2012-10-17T13:17:53Z</dcterms:modified>
  <cp:revision>26</cp:revision>
  <dc:subject/>
  <dc:title>Presentación de PowerPoint</dc:title>
</cp:coreProperties>
</file>